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4A7F-5148-4D64-A146-B735D7ACD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dred Years’ War 1337-1453  England vs. F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King Edward III claimed the right to the French thr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sues – territory and control of Flan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rly English success (longbow and military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raids and sie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e French victories – impact of Joan of Ar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De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uses – rats/fleas spread by trade routes, close proximity, and lack of sani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tments – flagellants, leeches, expel Je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acts – huge population reductions, labor shortages, mig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eval Chu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sues – transformation into largest political entity and secular organization, papal power vs. monarc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ment V moves papacy to Avignon – Babylonian Captivity, major impact on Roman econom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eat Schism – two popes elected (French and Italian) two popes claim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h popes dumped and third pope sel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ciliar Movement – limits papal authority and restores Pope to R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ular movement that demonstrated man’s independence from reli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fects the middle class and aristocracy only – no impact on lower cl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nacle of the movement is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ench = international language of Eur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government restri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e main ide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 methods of natural science applicable to all aspects of li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 scientific method capable of discovering the laws of human socie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 possibility of societal and individual progress and improvement for humans – optim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keptics – someone who habitually doubts accepted belief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le – attacked superstition, religious dogma, and tradi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ilosophes – bringing knowledge to Europe – educate the middle cl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esquieu – satire of the customs and practices of Europe, advocated a balance of power within govern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ltaire – criticized the Church as oppressive, seek individual peace, practice tole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cke – attacked divine right,  social contract was a breakable contract if necessary to protect natural righ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ith – economics based on natural law.  Laissez-faire policy is the best polic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ons – meetings of intellectuals to discuss philosophy, politics, and current ev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lightened monarc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 educated monarch would be a better monarc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erine the Great of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lightened absolut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roduced reforms in legal code and religious tole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ederick the Great of P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igious and academic freed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ormed legal code and improved 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seph II of Aust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olished serfd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igious tolerance to Jews and Protest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couraged by Enlightenmen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e E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Clerg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-Nobl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-All other (All tax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uis XIV wars, Versailles, American Revolution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xes without approval of Estates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st Stage – Sequ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Estate creates National Assemb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asant rio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aration of the Rights of 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d of clergy rights and proper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ion of constitutional monarc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aration of Pillnitz from Austria fuels 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are War on Aust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ng impriso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ublic cre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obins (all) split into Girondists and Mount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untain led by Robespierre/Danton executes Roy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ittee of Public Safety campa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ds Reign of Terr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turns moderates to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5 member Directory to rule w/ help fro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pole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coup, Napoleon initiates several constitutional changes ultimately ending with him as Emper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cordat – results in the state having control over the Church in France (no return of lands, bishop sele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 intended to treat everyone equally under the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lish serfd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igious tol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so reforms bureaucracy to strengthen and stabilize F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d Army defeats coalition forms Grand Emp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nce, Holland, Spain, German states (except Prussia/Austria), Warsaw, Italy and Swiss Re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itutes French law and practices into conquered territ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’t defeat England – plan to cut off British trade on the Conti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economic issues for Grand Empire and fuels national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sian Campaign with 600,000 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sians retreat and destro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d retreat with 40,000 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B, Austria, Prussia, Russia align to liberate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poleon abdicates to Elb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uis XVI rules until Napoleon retur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poleon raises an army and loses at Waterloo (100 da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nna conference consisting of Austria, Russia, Prussia, Grea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he ‘rightful’ rulers of Europe to their th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nd maintain a balance of power to guarantee pe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 surrounded by strong states to prevent expa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remains consolidated at 39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uple Alliance is form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spread of liberalism and revolutionary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 territorial bound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Prevents general war in Europe for almost 1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t important chan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d management – crop/field rotations, dikes and irrigation, enclosure mov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er yield, increased livestock and byproducts (meat, mil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oved die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ger lifespa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ter heal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numbers of landless labor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pulation explo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pid increase due to declining death 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 of the plague, smallpox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oved sani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ased food produ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pulation pressure creates cottage indus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ttage indus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ed on ‘putting out’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efficient, low wages, unreliable qua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s in Britain (textil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undant natural resources, workers, expanding market, free market and investment capi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novations – spinning jenny, waterframe, steam engines, coal for smelting 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ased quantity / variety of consumer go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ce redu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 opportun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panded weal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er standard of liv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pansion of urban areas / and condi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rth of un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beral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cused on the rights of individuals and limits on the powers of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ional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ople’s feeling of unity against a ruler or outside op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eled by religion, geography, culture, and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pes the course of European history for the next cen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mantic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tistic and literary movement focused on a new outlook on life, deep appreciation for n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nse passion and emotion in art, music, and liter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orm Bill of 1832 – expands suffrage, creates House of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tists – movement demands universal suff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n Laws – tariffs on imported grain repealed in 18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turns to a constitutional monarchy after Napoleon until 18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rman Con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a confederation of 39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lsbad decrees – censor and control student and other nationalistic organiz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my officers stage Decembrist Revolt for a liberal, constitutional gover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ushed by Nicholas I – limits freedoms and punishes liber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ists revolt, create national worksh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ne Days – 10k killed, moderates and middle class reg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Republic created with Napoleon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enna and Hungary socialist revo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u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us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berals wanted unified German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derick William IV new emper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stria / Russia say no to un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revolutions failed becaus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vided by social and economic dif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unified plans for new gover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mean W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sia vs. Britain &amp; France over holy sites in the Ottoman Emp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sia humiliated b/c outdated technology, strategy, and transpor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tivates Russia to catch up with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al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of 1848 Italy was composed of Sardinia, Lombardy-Venetia, the Papal States, and Nap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ng Victor Emmanuel II (Sardinia) ruled as a constitutional monar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vour – (VEII Prime Minister) was a nationalist, reformer, who sought a unified 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achieve this goal – force Austria out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ret agreement with Napoleon III to back Sardinia against Aust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vour provokes Austria into war – France withdra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lists Garibaldi to invade Sicily and Nap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conquest of Venetia and Papal States Italy becomes unif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ctor Emmanuel II – King of 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equences – North / South rivalry &amp; increased separation of Church and St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rman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stria and Prussia dominate German States – Prussia enjoys superiority due to influence in Zollverein and level of industrial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ng William I appoints Bismarck as chancell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smar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e Germany by blood and iron – Prussia had power to lead struggle for un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orms government and enlarged the arm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ads Prussia and Austria into war with Denmark to reclaim territ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s disputes over territory to initiate Austro-Prussian W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stro-Prussian W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en weeks long – Austria loses – gets lenient terms from Bismarck and gets out of German Confede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co-Prussian W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ute over succession to the Spanish thr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ads Napoleon III to declare w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ussia wins – takes Alsace &amp; Lorraine – NIII exi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71 – Germany uni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iser William I rules Emp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smarck publishes Kulturkampf as attack on the Chur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smarck worked to gain worker loyalty and suppress Socialist Par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ystal Palace 1851 – symbolized unlimited potential of industrial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raeli – PM expands electo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adstone – PM institutes secret ballot and free public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iod shows rise of the two-party system and decline of the power of the monarch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poleon III – leads Second Republic through public works programs and economic expan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rengths – domestic and political reforms, Weakness – foreign poli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ses F-P War and is exil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rd Re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is Commune tries to separate – National Assembly has to suppress (20k dea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eyfus affair – creates division between Church/Old Establishment vs. Republica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ile Zola famous author defends Dreyf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t Crimean War – Russia focused on catching up to Euro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exander 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ds serfd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eates zemstvos (local governments) and reforms legal sys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sassinated in 1881 – replaced by Alexander I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exander I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mits reforms, focuses on political and industrial progr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ch for markets and raw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and Naval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ology – “White Man’s burden” &amp; Social Darwi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lin Conference 1884-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 to eliminate conflicts over African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to claim territory – ‘effective occupation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ion of native rule except Liberia and Ethiop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er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tch settlers (Afrikaners) vs. British 1899-19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er Rebe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ese try to revolt to Western influence (unsuccess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alian Renaissance – out of the Dark Ages and return of the class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orence, Milan and Venice – Medici fam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aly’s dominant control of banking and trade routes create a wealthy group of pa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ltural rebirth and growth of the arts,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manism – study ideas in Latin and Greek classics (form over substance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ll rounded education – rhetoric, politics, philosophy, poetry, and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ier – Noble 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trarch – father of humanism, Da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t – new techniques like chiaroscuro (shading to create contrasts between light and dark) and linea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tists – Michelangelo, da Vinci, Rapha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ern Renaiss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cus on religious reform as well as humanist ide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ead educational focus through invention of printing press (Bib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asmus – merge civic virtue with Christian ideals / viewed as a heretic for anticlerical views and satire of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igious superst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– Utopia / a critique on modern society – executed for not taking Oath to the 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ves – primary goal = gold and sp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goal = faster trade routes and new 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– Columbus / Magel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s – disease, slavery, rise of Spain, global economy, silver glut impact on economy (infl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th toll from the plague shakes faith in the Chu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ony – selling of church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uralism – multiple church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ulgences – forgiveness for s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us of the priests – uneducated, illiterate, and immo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alth of the Chu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rman monk attacks the sale of indulgences (95 theses), the sacraments, and route to sal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ommunicated and exi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ks refuge from Frederick the El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theranism spreads through German kingdoms, Denmark, Norway, Sweden, and Fin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ace of Augsburg allows German princes to choose religion for their reg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rman peasants misinterpret Luther’s writings revolt – Luther condemned their 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v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rees with Luther on most points – biggest difference is salvation through predest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vin uses Geneva as a model for Christian soci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institutes a school system, new industries, “Protestant work ethic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bapti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lie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all church members eq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dult bapt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total separation of church and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ewed as dangerous radic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Re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nry VIII separates from the Church over the issue of div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 of Supremacy makes Henry VIII head of the Church of England (Protest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Church lands confiscated, Catholics become mino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er Re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ex of Prohibited books, Inquis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cil of Trent – affirms doctrine, sacraments, and rit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orms practices = simony, indulgences, plural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 little, too la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cordat of Bologna – created strong ties to Rome and the P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ench Calvinists (Huguenots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vil war – Henry IV (Calvinist) converts to save France / issues Edict of Nantes to allow Huguenots the righ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y returns England to Catholic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izabeth I switches 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mestic – moderate version of Protestantis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tional – supports Protestant revo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illip II (Habsburg) wanted to exert more control and strengthen Catholic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lit into Calvinist North vs. Catholic So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gland supports Nor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ain supports So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mada destroy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iven from the Netherla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rty Years’ W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uses – Peace of Augsburg violations / international tens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ur phras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hemian – Bohemia revolts to become Calvin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ederick the Elector lo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sh – Denmark invades Germany to aid Protest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sh lo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vinism outlawed and Lutherans ordered to return Catholic proper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edish – Swedish king initially successfu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se – Southern Germany remains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ench-Swedish – draw between FS and Sp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ace of Westpha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zerland, Holland indepen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RE weakened, Habsburgs weake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rmany devast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 of religious wars in Eur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 Church lost political and economic influ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tagonistic element in European politics between P and 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s of relig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ionalistic movements because of increased separation of church and st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uction in status of church over st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s take the global lead in exploration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 to ‘civilize’ the heat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 the middle man and trade directly with th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e, fortune, and titles of n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ugal takes the early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goal was the establishment of trade routes and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ships, sailors – early slave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goal was to explore the world to find better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istadores – wealth, fame, a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ce over Incas and Azte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d the wealth of Spain / 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Price Revolution – inflation from influx of gold and 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ed native civil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laved native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nry IV – begins the process of reducing the power of the no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lly – brings financial stability and economic grow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uis XIII – breaks the power of the no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chelieu – policy of total subordination to the monarch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nges the royal council, starts system of intenda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oundwork for centralized bureaucra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uis XIV – Sun King – model for the absolute monar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arly exposure to Fronde, rebellions, create sense of paranoia and need to tighten royal author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lbert helps strengthen economy = gold in the coff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lements mercantilistic poli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overnment control of industry and tra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ilds roads and can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uis revokes Edict of Nantes – ends Protestant separatis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uis creates a professional army to increase territory (at war for 33 of 54 year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uis establishes control over all aspects of the st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ilds Versailles (keep your friends close and your enemies closer!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tron to the arts – Classicis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ussia – Peter the Gre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mary goal is to westernize Russ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eds to strengthen army and create a navy – western style with compulsory serv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tempt to install a mercantilistic economy in Russia – fail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ilds St. Petersbur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ample of modern baroque city – copy of Versail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glish Absolut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nry VIII – strengthened monarchy and reduced power of Catholic chur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izabeth I – great diplomat, strong l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es I – cousin of EI, problems with Parliament over taxes and control of revenu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s I – son of JI, continues problems with Parliament over money, dismisses Parliament (11 year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s coastal defense taxes as reven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es to force religious changes on the Scots, revolts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ls Parliament (Short Parliament) to raise army (refused) and dismiss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ls Parliament again (Long Parliament) to get money to pay the Scots to leave N.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liament issues Grand Remonstrance (list of grievanc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s flees London to gather troops – start of English Civil W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liver Cromwell and model army of Puritans supports Parliament, captures Charles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s I – execu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mwell establishes military dictator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s II – returns from ex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liament restores Church of England increases religious tensions between P and 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I signs a secret treaty to reduce restrictions on Cathol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liament tries to block James II ascension (Catholi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lliam and Mary invade – James flees (Glorious Revolu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pt throne in exchange for Bill of Rights and foundation for constitutional monarch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s V – first king of united Spain and H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world wealth funds Golden Age of Spain’s art 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lits empire between Philip and Ferdin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 with Netherlands (loss of Armad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rty Years W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 of Spanish Succ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ural philosophy – concept of a geocentric universe (Earth at the cen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sed of four basic elements, ten spheres, heaven (finite univers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ory supported and expanded by theolog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ernicus – posthumously publishes theories on heliocentric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vin, Luther, etc. denounce the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uces importance of the Earth and contradicts the Bi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pler – develops three natural laws that explain orbit, speed, and rotation of the plan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ilei – develops theories on laws of motion, composition of planets and heavenly bo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ied by the Church as a heretic – trial is an example of the conflict between Science and Relig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ton – combines theories of previous into a system of mathematical laws – universal gravi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tific Meth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on – empirical method of observation and inductive reasoning (learn why something happe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artes – use logic and reason to understand things and use scientific laws to prove th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bination of Bacon / Descartes – modern Scientific meth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EACE-76EF-4C6F-B643-2EC5F5E5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D9F8-8DD4-4B05-9BFD-AEEFF510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8D40-6799-4D30-9DCB-44967FF2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EFA3-A06E-4A27-AD0F-0E7CF5EF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4652-7DE9-4F4F-A2F3-EC2E13F6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95AF-42CD-4505-BA9D-DEE9C832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1F28-CEA8-4097-A159-05D1D881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6AE7-B176-4E6B-9ABF-1D01DD20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511C-35BE-4111-AE35-62CFD668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9614-811A-4A52-B7BA-A59FE048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0C0E-3AC7-4091-8608-9D695412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3721-FC10-4A86-A2FA-8FCD115B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C894-9C63-4B23-B871-E4C20BCB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7F87-A345-448F-829A-29E65AB4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E3EA-1718-44C0-9030-398739ED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D142-4A35-4D2F-A909-F4C17358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5E15-990B-49A3-9EC6-46E19783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5BD2-A4D2-4428-A86D-5F968833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A9E5-956E-4523-A871-795A5775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7294-09B3-483B-90E5-3D06FA5D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9172-824D-4CF1-976E-9D350869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1FF2-5AE4-4E7A-9FF3-BBF1E7CB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0BFF-A9A0-4C49-9D2C-05BB54B5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5F86B-E3F1-4207-8FB2-6D3828E8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086F-5664-4858-BA74-25A193D9F9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710A-7AA4-4CAA-98E5-C694A1B11D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ate Middle Ag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undred Years’ War (and then som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uses / Impa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ack 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uses / Impa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dieval Chu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bylonian Cap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reat Sch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iliar Mov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lighte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riage of Reason and Sci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ee main ide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keptics and Philosoph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jor play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act of sal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lightened rul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rench Revolu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cial Class 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b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xation w/o repres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s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(Reign of Terro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(Reactionar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apole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99 Coup d’etat forms consu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01 Concord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04 Napoleonic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07 Grand Empire 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ental system instit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12 Russian campa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14 Abdicates thr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15 Waterloo and the end of Napole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gress of Vien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terni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ricultural Improv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pulation explo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toindustrial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uses of the 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equences of the 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deologies / Age of Metterni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bera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iona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mantic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rman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1848 Revolutions / Crimean War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us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imean War 1854-5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fic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848-1900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mperialis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rlin Confer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er W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xer Rebell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naissance and Discover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alian Renaiss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, Why, &amp; Wh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um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&amp; W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act on art/arti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thern Renaiss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ligious flav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jor play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naissance and Discovery (continued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yages of Discove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jor Play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umb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gel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a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Reform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te of the Chu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tin Lu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tions / Impa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hn Calv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tions / Impa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abapti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glish Re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nter Re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igious Wa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therla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rty Years’ W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uses / Impa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ults of the Refor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ge of Expan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d, Gold, and Gl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rtugal and Sp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eque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bsolutis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anc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nry IV &amp; Sul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uis XIII &amp; Richelie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uis XIV &amp; Colbe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ter the Gr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glish Constitutionalis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d of the Tudor’s and Absolut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nry VIII &amp; Elizabeth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o bad James’ and two bad Charles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glish Civil War &amp; Oliver Crom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rious Rev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se and Fall of Sp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cientific Revolu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d of Natural Philosop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jor Contribu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pernic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pl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lile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t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ientific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on / Descar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1:40:34Z</dcterms:created>
  <dc:creator> </dc:creator>
  <dc:description/>
  <dc:language>en-US</dc:language>
  <cp:lastModifiedBy>School District U46</cp:lastModifiedBy>
  <dcterms:modified xsi:type="dcterms:W3CDTF">2006-04-19T21:11:07Z</dcterms:modified>
  <cp:revision>33</cp:revision>
  <dc:subject/>
  <dc:title>Late Middle Ages</dc:title>
</cp:coreProperties>
</file>